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571-C0BC-460E-9249-E9A9A9B2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B38-C98B-4387-99A9-3BD2A341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138-D3F4-405A-9A4B-3BA8765E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4BF-135D-4637-9AE4-AC82F857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CAA6-8F3A-4D0D-85FA-0A5332E8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A02E-D0D8-4D45-AFDF-8EF3F716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ADDD-8520-483E-8741-DBC8BF7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07E-F123-4450-B1B9-95F43FB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A73-FA15-43F3-B822-513E0B4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3B9B-6DD8-460F-81B6-4FD0BDF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A94E-5178-4DAC-96E7-7982778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783-937E-4D39-AB69-ED61F3C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9E7-B507-45D4-AACA-A55EED6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D2DE-B73B-41BC-B1A6-E189593F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4D4-7494-4AE5-A0AE-7B692D3E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7FD9-5C94-4150-8634-18DAA251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7F3-9C1F-4BF9-A17E-17A38985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130-A289-4144-8251-D7061306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AEF-7B10-4E3F-9FE4-7A4ABFCD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1FD-3D48-42E0-BCA3-B59C908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DA5-CC00-485F-AE47-5AD62AB6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12A-6C46-49D6-BA17-637EBFB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A9D-AC9D-4F94-BD71-F521408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A56-DBFC-4C87-9C00-00CD017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1C93-0BA2-4BBF-A56A-ED1E373330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9BD-A511-4C01-B439-F3EE1DB61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водопониж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а водопонижения котлованов и траншей для выбранной из 12 возможных схем водопониж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контура водопонижающей системы с рассчитанным количеством скважин (иглофильтров) в масштаб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41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0960" y="517356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чет водопонижений производится по одной из 12 схем водопонижения (в соответствии со СНиП 2.06.14-85). Для проведения расчета водопонижения необходимо указать радиус депрессии, приведенный радиус водопонизительной системы, понижение уровня подземных вод в расчетной точке, коэффициент фильтрации, непониженный напор подземных вод, толщину водоносного слоя и мощность откачки воды, а также некоторые дополнительные параметры (в зависимости от выбранной схемы водопонижени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5924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диуса депресс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9480" y="51436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диуса депрессии производится по одной из семи расчетных схе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05040" y="1031760"/>
            <a:ext cx="59245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Расчет приведенного радиуса водопонизительной систем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0356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веденный радиус водопонизительной системы рассчитывается исходя из длины линейной системы или размера большей стороны контурной системы. Данный параметр можно ввести вручную или получить из чертежа, указав контур систем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30320" y="1461960"/>
            <a:ext cx="563904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онтура водопонизительной системы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8262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троение на чертеже контура водопонижающей системы с рассчитанным количеством скважин (иглофильтров) в масштаб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89120" y="1262160"/>
            <a:ext cx="445608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водопони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90840" y="1301760"/>
            <a:ext cx="62085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7:50Z</dcterms:modified>
  <cp:revision>256</cp:revision>
  <dc:subject/>
  <dc:title>Слайд 1</dc:title>
</cp:coreProperties>
</file>